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AB88-958C-4D10-BE64-C69C99D89B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3726-044B-40E6-A82E-74AE16337F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F42A-3D28-4753-8951-A356484A9F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781-BBFA-4B55-8E3D-C47EE282BF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4ACB-C431-4772-9F67-D659B3CE0A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8743-ADFA-410F-B99D-539C0FDB7F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75FF-DE32-44BF-B500-643AED2CC1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7E8E-B950-4A13-8E41-1EB55FEEF3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CF2B-1880-4E8D-A884-3AEA410C21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4A8F-BB6B-4583-ACAA-8802694503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7D67-3E37-49D3-AFE8-C683F2E0DA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E59A-8E00-4A1E-A2EF-67B05B58A7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9EFF-B4ED-43D5-A533-3CE1D41BA2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AE65-3901-458B-8F6B-E49840C861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29BE-C35D-453B-AA5C-CC0FC8FB69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DABA-E9C0-493E-A31E-C99142F06D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9FFA-465B-460C-B920-8FBA68B0F7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D2B6-C414-4FC5-916A-2F3C8ED825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5FD5-0909-49FD-97A4-8946BD7102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DE95-E601-406B-ACF9-5E0024606D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7E4-C9F8-4C56-A2EF-5E4C9D9C8B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381F-7A94-4F17-A7E2-EE873B9779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D555-221E-45CD-A6EE-A33BD99D97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EF6E-C3B0-4826-98D0-E80185A0E1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E51F-0B65-47C7-AB4F-DCEE92E632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8D1-E4FB-408E-BCE6-90AE79101A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4898-9E43-446B-94C8-4A0D4B7FBD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B3B6-93F1-4072-9522-EB121FEE96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F9CF-9899-44EF-B1D7-009C7B9C6A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316C-9A5A-4C91-83FE-61B4528ACC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B8B0-FD8F-47DB-96CE-657EEC3218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1160-CF5D-486F-883F-454B256243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C90-258A-4809-BEE4-625AD336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D08-581F-45EF-B7CE-464DC617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22A-890A-4982-95D2-EFAD9309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ED2-3E47-4FA7-A96E-AC88E014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F75-BF70-473C-A90C-0286C135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404-9969-459F-920E-2ED437BC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C91-F851-42EA-B3C5-F0D3DD3F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4F4-6C7D-4DED-9873-D3E60211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0A0-7AAF-4A8C-9664-C439F9DB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57A-654E-460D-B333-54ECC48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23D-A063-401B-AEF1-5C6390B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D46-7C9F-404B-AC1F-16874BA5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E157-618C-45CF-8069-5BDB159DA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1224000" y="2279520"/>
            <a:ext cx="700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  <a:ea typeface="Times New Roman"/>
              </a:rPr>
              <a:t>Avez-vous 2 heures à consacrer à la réflexion sur l’avenir de votre entrepris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727440" y="351000"/>
            <a:ext cx="23223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2017800" y="171468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3 Analyser les produits, les services, le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0640" y="3009960"/>
          <a:ext cx="7916760" cy="1881000"/>
        </p:xfrm>
        <a:graphic>
          <a:graphicData uri="http://schemas.openxmlformats.org/drawingml/2006/table">
            <a:tbl>
              <a:tblPr/>
              <a:tblGrid>
                <a:gridCol w="2638440"/>
                <a:gridCol w="2639880"/>
                <a:gridCol w="2638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 sont nos clien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produi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service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84160" y="5162400"/>
          <a:ext cx="792972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métier de l’entrepris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 est la réelle valeur ajouté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99" name="Groupe 6" descr=""/>
          <p:cNvPicPr/>
          <p:nvPr/>
        </p:nvPicPr>
        <p:blipFill>
          <a:blip r:embed="rId1"/>
          <a:stretch/>
        </p:blipFill>
        <p:spPr>
          <a:xfrm>
            <a:off x="2335320" y="493560"/>
            <a:ext cx="512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357200"/>
          <a:ext cx="8286480" cy="5241960"/>
        </p:xfrm>
        <a:graphic>
          <a:graphicData uri="http://schemas.openxmlformats.org/drawingml/2006/table">
            <a:tbl>
              <a:tblPr/>
              <a:tblGrid>
                <a:gridCol w="6226200"/>
                <a:gridCol w="1076040"/>
                <a:gridCol w="9842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potentiel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prospect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ven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ux concurrents sont-ils connus et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 concurrent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entreprise a-t-elle été classée par rapport à ses concurren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cessus d’innovation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’innovation des concurrent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2017800" y="178596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4 Analyser les modes de commer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oupe 4" descr=""/>
          <p:cNvPicPr/>
          <p:nvPr/>
        </p:nvPicPr>
        <p:blipFill>
          <a:blip r:embed="rId1"/>
          <a:stretch/>
        </p:blipFill>
        <p:spPr>
          <a:xfrm>
            <a:off x="2279520" y="493560"/>
            <a:ext cx="51879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098720" y="3067200"/>
          <a:ext cx="7500600" cy="1854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urniss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ur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ai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11080" y="516240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vends à mes clien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touche les prospec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285920"/>
          <a:ext cx="8215200" cy="5241960"/>
        </p:xfrm>
        <a:graphic>
          <a:graphicData uri="http://schemas.openxmlformats.org/drawingml/2006/table">
            <a:tbl>
              <a:tblPr/>
              <a:tblGrid>
                <a:gridCol w="6172200"/>
                <a:gridCol w="1066680"/>
                <a:gridCol w="97632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hiérarchique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fonctionnel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rganigrammes fonctionnels et hiérarchiques ont-ils été superpo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grands processu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moyens dont dispose l’entreprise a-t-elle été ré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gement de la Direction générale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agement des principaux cadre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sociogrammes des différents services et direction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léments de motivation des différents collaborateurs et cadre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évaluation de la cohérence entre les objectifs et l’organisation de l’entreprise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2035080" y="1928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5 Analyser l’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e 4" descr=""/>
          <p:cNvPicPr/>
          <p:nvPr/>
        </p:nvPicPr>
        <p:blipFill>
          <a:blip r:embed="rId1"/>
          <a:stretch/>
        </p:blipFill>
        <p:spPr>
          <a:xfrm>
            <a:off x="2352600" y="706320"/>
            <a:ext cx="51278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847800" y="3027240"/>
          <a:ext cx="8037360" cy="3048120"/>
        </p:xfrm>
        <a:graphic>
          <a:graphicData uri="http://schemas.openxmlformats.org/drawingml/2006/table">
            <a:tbl>
              <a:tblPr/>
              <a:tblGrid>
                <a:gridCol w="1714320"/>
                <a:gridCol w="1581120"/>
                <a:gridCol w="1581120"/>
                <a:gridCol w="1579680"/>
                <a:gridCol w="1581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 analys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n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fait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3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in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28592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par personne et par activité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entre les différents services et direction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uts hommes ont-ils été détermin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alorisation des taches avec le cout homme a-t-elle été effect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humain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matériell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financièr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jets à mener dans le projet d’entreprise et les ressources disponible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rbitrages sur les projets à mener ont-ils été fa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etours sur investissement des projets à mener a-t-il été évalu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862280" y="178596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6 Analyser les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e 4" descr=""/>
          <p:cNvPicPr/>
          <p:nvPr/>
        </p:nvPicPr>
        <p:blipFill>
          <a:blip r:embed="rId1"/>
          <a:stretch/>
        </p:blipFill>
        <p:spPr>
          <a:xfrm>
            <a:off x="2182680" y="63324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101600" y="2967120"/>
          <a:ext cx="7183440" cy="1752480"/>
        </p:xfrm>
        <a:graphic>
          <a:graphicData uri="http://schemas.openxmlformats.org/drawingml/2006/table">
            <a:tbl>
              <a:tblPr/>
              <a:tblGrid>
                <a:gridCol w="2664000"/>
                <a:gridCol w="1490760"/>
                <a:gridCol w="1450800"/>
                <a:gridCol w="157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i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a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 matéri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les act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biliser en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t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93880" y="5162400"/>
          <a:ext cx="7597800" cy="1100160"/>
        </p:xfrm>
        <a:graphic>
          <a:graphicData uri="http://schemas.openxmlformats.org/drawingml/2006/table">
            <a:tbl>
              <a:tblPr/>
              <a:tblGrid>
                <a:gridCol w="759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retour sur investissement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8760" y="135720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les analyses ont-elles été menées complètemen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ort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aible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éléments ont-ils été mis en perspective les uns par rapport aux aut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les « maladies » de l’entreprise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face de chaque maladie, les axes de progress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xes de progression sont-ils cohérents avec la vision stratégiqu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validée ou reformul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ont-ils été validés ou ré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apacité de l’entreprise à mener son projet d’entreprise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1"/>
          <p:cNvSpPr/>
          <p:nvPr/>
        </p:nvSpPr>
        <p:spPr>
          <a:xfrm>
            <a:off x="203364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7 Faire le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oupe 5" descr=""/>
          <p:cNvPicPr/>
          <p:nvPr/>
        </p:nvPicPr>
        <p:blipFill>
          <a:blip r:embed="rId1"/>
          <a:stretch/>
        </p:blipFill>
        <p:spPr>
          <a:xfrm>
            <a:off x="2352600" y="407880"/>
            <a:ext cx="512136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071720" y="2786040"/>
          <a:ext cx="7581600" cy="1854360"/>
        </p:xfrm>
        <a:graphic>
          <a:graphicData uri="http://schemas.openxmlformats.org/drawingml/2006/table">
            <a:tbl>
              <a:tblPr/>
              <a:tblGrid>
                <a:gridCol w="1704960"/>
                <a:gridCol w="1469880"/>
                <a:gridCol w="1468440"/>
                <a:gridCol w="1469880"/>
                <a:gridCol w="1468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0160" y="5162400"/>
          <a:ext cx="8066160" cy="116064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s sont « les maladies » de l’entreprise qui empêcheraient d’atteindre les objectif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357200"/>
          <a:ext cx="8572680" cy="5241960"/>
        </p:xfrm>
        <a:graphic>
          <a:graphicData uri="http://schemas.openxmlformats.org/drawingml/2006/table">
            <a:tbl>
              <a:tblPr/>
              <a:tblGrid>
                <a:gridCol w="6440400"/>
                <a:gridCol w="1113120"/>
                <a:gridCol w="10191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lair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ohérente avec les capacités de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suffisamment déclinée en objectifs mesurab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projets à mener a-t-elle été fin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volutions organisationnelles nécessaire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lans marketing et commercial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lan financier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document « projet d’entreprise » a-t-il été rédig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est-il clair et compréhensible par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validé par les actionnaires puis communiqué aux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"/>
          <p:cNvSpPr/>
          <p:nvPr/>
        </p:nvSpPr>
        <p:spPr>
          <a:xfrm>
            <a:off x="2019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8 Rédiger et communiqu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e 4" descr=""/>
          <p:cNvPicPr/>
          <p:nvPr/>
        </p:nvPicPr>
        <p:blipFill>
          <a:blip r:embed="rId1"/>
          <a:stretch/>
        </p:blipFill>
        <p:spPr>
          <a:xfrm>
            <a:off x="2341440" y="40788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801800" y="4125960"/>
          <a:ext cx="6095880" cy="2225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12880" y="278604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nouvell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s objectifs généraux associés à cett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me 9" descr=""/>
          <p:cNvPicPr/>
          <p:nvPr/>
        </p:nvPicPr>
        <p:blipFill>
          <a:blip r:embed="rId1"/>
          <a:stretch/>
        </p:blipFill>
        <p:spPr>
          <a:xfrm>
            <a:off x="1420920" y="841320"/>
            <a:ext cx="6869160" cy="4316400"/>
          </a:xfrm>
          <a:prstGeom prst="rect">
            <a:avLst/>
          </a:prstGeom>
          <a:ln w="0">
            <a:noFill/>
          </a:ln>
        </p:spPr>
      </p:pic>
      <p:sp>
        <p:nvSpPr>
          <p:cNvPr id="185" name="Connecteur droit 10"/>
          <p:cNvSpPr/>
          <p:nvPr/>
        </p:nvSpPr>
        <p:spPr>
          <a:xfrm flipV="1">
            <a:off x="1660680" y="480348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cteur droit 11"/>
          <p:cNvSpPr/>
          <p:nvPr/>
        </p:nvSpPr>
        <p:spPr>
          <a:xfrm flipV="1">
            <a:off x="5962680" y="156492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llipse 12"/>
          <p:cNvSpPr/>
          <p:nvPr/>
        </p:nvSpPr>
        <p:spPr>
          <a:xfrm>
            <a:off x="3753000" y="3548160"/>
            <a:ext cx="69660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lipse 13"/>
          <p:cNvSpPr/>
          <p:nvPr/>
        </p:nvSpPr>
        <p:spPr>
          <a:xfrm>
            <a:off x="4389480" y="2139840"/>
            <a:ext cx="69696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lipse 14"/>
          <p:cNvSpPr/>
          <p:nvPr/>
        </p:nvSpPr>
        <p:spPr>
          <a:xfrm>
            <a:off x="5324400" y="3525840"/>
            <a:ext cx="696960" cy="719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7120" y="1214280"/>
          <a:ext cx="8501040" cy="5241960"/>
        </p:xfrm>
        <a:graphic>
          <a:graphicData uri="http://schemas.openxmlformats.org/drawingml/2006/table">
            <a:tbl>
              <a:tblPr/>
              <a:tblGrid>
                <a:gridCol w="6386760"/>
                <a:gridCol w="1104840"/>
                <a:gridCol w="10094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mensu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trimestri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reporting des tableaux de bord sont-ils connus de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anagers connaissent-t-ils les modes de consolidation des tableaux de bord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mensuelles sont 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semestri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ann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temps nécessaire pour les bilans intermédiaires ont-ils été réserv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collaborateurs sont-ils conscients de l’importance du suivi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Direction générale est-elle prête à consacrer le temps nécessaire au pilotag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"/>
          <p:cNvSpPr/>
          <p:nvPr/>
        </p:nvSpPr>
        <p:spPr>
          <a:xfrm>
            <a:off x="210348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9 Pilot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oupe 4" descr=""/>
          <p:cNvPicPr/>
          <p:nvPr/>
        </p:nvPicPr>
        <p:blipFill>
          <a:blip r:embed="rId1"/>
          <a:stretch/>
        </p:blipFill>
        <p:spPr>
          <a:xfrm>
            <a:off x="2236680" y="633240"/>
            <a:ext cx="54626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947880" y="2676600"/>
          <a:ext cx="7972200" cy="3954240"/>
        </p:xfrm>
        <a:graphic>
          <a:graphicData uri="http://schemas.openxmlformats.org/drawingml/2006/table">
            <a:tbl>
              <a:tblPr/>
              <a:tblGrid>
                <a:gridCol w="1992240"/>
                <a:gridCol w="1993680"/>
                <a:gridCol w="1992600"/>
                <a:gridCol w="1993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non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s corr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iagramme 3" descr=""/>
          <p:cNvPicPr/>
          <p:nvPr/>
        </p:nvPicPr>
        <p:blipFill>
          <a:blip r:embed="rId1"/>
          <a:stretch/>
        </p:blipFill>
        <p:spPr>
          <a:xfrm>
            <a:off x="2139840" y="1994040"/>
            <a:ext cx="4651560" cy="2779560"/>
          </a:xfrm>
          <a:prstGeom prst="rect">
            <a:avLst/>
          </a:prstGeom>
          <a:ln w="0">
            <a:noFill/>
          </a:ln>
        </p:spPr>
      </p:pic>
      <p:sp>
        <p:nvSpPr>
          <p:cNvPr id="196" name="Connecteur droit 4"/>
          <p:cNvSpPr/>
          <p:nvPr/>
        </p:nvSpPr>
        <p:spPr>
          <a:xfrm flipV="1">
            <a:off x="2266920" y="4303800"/>
            <a:ext cx="946080" cy="7682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necteur droit 5"/>
          <p:cNvSpPr/>
          <p:nvPr/>
        </p:nvSpPr>
        <p:spPr>
          <a:xfrm flipV="1">
            <a:off x="5735520" y="1999800"/>
            <a:ext cx="630360" cy="43812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e 9"/>
          <p:cNvGrpSpPr/>
          <p:nvPr/>
        </p:nvGrpSpPr>
        <p:grpSpPr>
          <a:xfrm>
            <a:off x="4494240" y="2914560"/>
            <a:ext cx="812880" cy="498600"/>
            <a:chOff x="4494240" y="2914560"/>
            <a:chExt cx="812880" cy="498600"/>
          </a:xfrm>
        </p:grpSpPr>
        <p:sp>
          <p:nvSpPr>
            <p:cNvPr id="199" name="Ellipse 7"/>
            <p:cNvSpPr/>
            <p:nvPr/>
          </p:nvSpPr>
          <p:spPr>
            <a:xfrm>
              <a:off x="4527360" y="2914560"/>
              <a:ext cx="538200" cy="498600"/>
            </a:xfrm>
            <a:prstGeom prst="ellipse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ZoneTexte 8"/>
            <p:cNvSpPr/>
            <p:nvPr/>
          </p:nvSpPr>
          <p:spPr>
            <a:xfrm>
              <a:off x="4494240" y="2923200"/>
              <a:ext cx="8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1214280"/>
          <a:ext cx="7643880" cy="5241960"/>
        </p:xfrm>
        <a:graphic>
          <a:graphicData uri="http://schemas.openxmlformats.org/drawingml/2006/table">
            <a:tbl>
              <a:tblPr/>
              <a:tblGrid>
                <a:gridCol w="5742000"/>
                <a:gridCol w="993600"/>
                <a:gridCol w="90828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fait l’analyse des résultats obtenus sur les 3 dernières ann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our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ersonnel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quelles sont les valeurs que vous souhaitez véhiculer dans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naissez-vous les objectifs personnels des différents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rédigé une première vision de l’entreprise à horizon 3 an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à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aux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rapporterait cette vision aux collabor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vous apporterait cette vision à vous à titre personnel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28760" y="1285920"/>
          <a:ext cx="8477280" cy="5241960"/>
        </p:xfrm>
        <a:graphic>
          <a:graphicData uri="http://schemas.openxmlformats.org/drawingml/2006/table">
            <a:tbl>
              <a:tblPr/>
              <a:tblGrid>
                <a:gridCol w="6368760"/>
                <a:gridCol w="1100160"/>
                <a:gridCol w="10083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bilan annuels ont-ils été réali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 historique des principaux évènements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éunion de bilan global a-t-elle eu lieu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synthèse du bilan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echerche des causes des dysfonctionnements éventuels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ctions correctives à mener dans le prochain projet d’entreprise ont-elles été listées 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clôturé par un manifestation impliquant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sultats du projet d’entreprise ont-ils et communiqués à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llaborateurs les plus méritants ont-ils été récompen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nouvelle vision a-t-elle été écr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1"/>
          <p:cNvSpPr/>
          <p:nvPr/>
        </p:nvSpPr>
        <p:spPr>
          <a:xfrm>
            <a:off x="2046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0 Faire le bilan et lancer le nouveau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e 8"/>
          <p:cNvGrpSpPr/>
          <p:nvPr/>
        </p:nvGrpSpPr>
        <p:grpSpPr>
          <a:xfrm>
            <a:off x="2085840" y="642960"/>
            <a:ext cx="5379120" cy="772920"/>
            <a:chOff x="2085840" y="642960"/>
            <a:chExt cx="5379120" cy="77292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2085840" y="642960"/>
              <a:ext cx="90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ZoneTexte 6"/>
            <p:cNvSpPr/>
            <p:nvPr/>
          </p:nvSpPr>
          <p:spPr>
            <a:xfrm>
              <a:off x="3210480" y="653760"/>
              <a:ext cx="42544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 tout en 60 minutes tous les a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 tous les 3 an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1042920" y="2930400"/>
          <a:ext cx="7667640" cy="2865600"/>
        </p:xfrm>
        <a:graphic>
          <a:graphicData uri="http://schemas.openxmlformats.org/drawingml/2006/table">
            <a:tbl>
              <a:tblPr/>
              <a:tblGrid>
                <a:gridCol w="1916280"/>
                <a:gridCol w="1917720"/>
                <a:gridCol w="1915920"/>
                <a:gridCol w="191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s analy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bien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mal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’il aurait fallu 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2062080" y="150012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 Avoir et rédiger l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84400" y="2428920"/>
          <a:ext cx="7418160" cy="1881000"/>
        </p:xfrm>
        <a:graphic>
          <a:graphicData uri="http://schemas.openxmlformats.org/drawingml/2006/table">
            <a:tbl>
              <a:tblPr/>
              <a:tblGrid>
                <a:gridCol w="2473200"/>
                <a:gridCol w="2471760"/>
                <a:gridCol w="24732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 B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ers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fes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1 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3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28800" y="4857840"/>
          <a:ext cx="792936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hérence entre personnel- professionnel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vision de l’entreprise à 3 an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66" name="Groupe 9" descr=""/>
          <p:cNvPicPr/>
          <p:nvPr/>
        </p:nvPicPr>
        <p:blipFill>
          <a:blip r:embed="rId1"/>
          <a:stretch/>
        </p:blipFill>
        <p:spPr>
          <a:xfrm>
            <a:off x="2382840" y="353880"/>
            <a:ext cx="5121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4240" y="1249200"/>
          <a:ext cx="7929720" cy="5243760"/>
        </p:xfrm>
        <a:graphic>
          <a:graphicData uri="http://schemas.openxmlformats.org/drawingml/2006/table">
            <a:tbl>
              <a:tblPr/>
              <a:tblGrid>
                <a:gridCol w="5956560"/>
                <a:gridCol w="1030320"/>
                <a:gridCol w="9428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sont-ils cohérents avec la vision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fonc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èque Direction opéra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fonctionnels et opérationnels sont-ils cohérents avec les objectif généraux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chiffre d’affaires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ésultat net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ont-ils été évalués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prévus sont-ils cohérents avec les résultats nets escomp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valorisés et intégrés dans le résultat ne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1843200" y="1643040"/>
            <a:ext cx="56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2 Décliner la vision en objectifs opéra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3078000"/>
          <a:ext cx="7516800" cy="2757600"/>
        </p:xfrm>
        <a:graphic>
          <a:graphicData uri="http://schemas.openxmlformats.org/drawingml/2006/table">
            <a:tbl>
              <a:tblPr/>
              <a:tblGrid>
                <a:gridCol w="1498680"/>
                <a:gridCol w="1203120"/>
                <a:gridCol w="1203480"/>
                <a:gridCol w="1204920"/>
                <a:gridCol w="1203120"/>
                <a:gridCol w="12034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ffre d’aff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ésultat 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s à mettre en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res obj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82" name="Groupe 5" descr=""/>
          <p:cNvPicPr/>
          <p:nvPr/>
        </p:nvPicPr>
        <p:blipFill>
          <a:blip r:embed="rId1"/>
          <a:stretch/>
        </p:blipFill>
        <p:spPr>
          <a:xfrm>
            <a:off x="2103480" y="420840"/>
            <a:ext cx="51926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42884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760"/>
                <a:gridCol w="1085760"/>
                <a:gridCol w="9936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produit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service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imag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marge net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métier de l’entreprise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duits et les services et le métier de l’entreprise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ypologies de client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clients et les produits et les services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’image de l’entreprise et son métier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valeurs de l’entreprise perçues par les clients sont-elles cohérentes avec les valeurs prônées par la Direction Généra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7:44Z</dcterms:created>
  <dc:creator>Utilisateur Windows</dc:creator>
  <dc:description/>
  <dc:language>en-US</dc:language>
  <cp:lastModifiedBy>Utilisateur Windows</cp:lastModifiedBy>
  <dcterms:modified xsi:type="dcterms:W3CDTF">2010-03-04T21:18:31Z</dcterms:modified>
  <cp:revision>22</cp:revision>
  <dc:subject/>
  <dc:title>Diapositive 1</dc:title>
</cp:coreProperties>
</file>